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72FD-D343-446E-BE78-2DED98B31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946A-3DD3-43F9-B272-4F1D998B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894E-933B-4167-A10C-FECBC022D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C4FE-58C0-43E8-BBAD-14A1A88BF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0797-071C-4492-A655-328FF04E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7CD3-83F3-440D-B63A-F37378E1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1179-24EA-4FE8-8DFF-0D02F448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4A6D-8FE6-49F7-B85C-983006CA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03F6-7070-4AA9-AE51-F4CC8E5D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C002-33A8-4252-AB07-B322710B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0744-1028-4BF6-9223-038620DF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11EB-7F3D-4277-A5F4-F6566FF6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D479-7C17-410B-92E9-C8BF79B0F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-sane.net/tutorials/focal_point/index.php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Garamond"/>
              </a:rPr>
              <a:t>Principles of Desig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Hierarchical Sc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438280" y="2362320"/>
            <a:ext cx="464832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Hierarchical Sc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24160" y="1981080"/>
            <a:ext cx="2695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33"/>
                </a:solidFill>
                <a:uFillTx/>
                <a:latin typeface="Garamond"/>
                <a:hlinkClick r:id="rId1"/>
              </a:rPr>
              <a:t>Focal 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057400" y="182880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lden 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85680" y="2585880"/>
            <a:ext cx="3210120" cy="1990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00640" y="2438280"/>
            <a:ext cx="2505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Garamond"/>
              </a:rPr>
              <a:t>Art ID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Frida Kahlo, </a:t>
            </a:r>
            <a:r>
              <a:rPr b="0" i="1" lang="en-US" sz="3600" spc="-1" strike="noStrike">
                <a:solidFill>
                  <a:srgbClr val="000000"/>
                </a:solidFill>
                <a:latin typeface="Garamond"/>
              </a:rPr>
              <a:t>The Two Fridas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, 1939, Surreali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3517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Picasso, </a:t>
            </a:r>
            <a:r>
              <a:rPr b="0" i="1" lang="en-US" sz="3600" spc="-1" strike="noStrike">
                <a:solidFill>
                  <a:srgbClr val="000000"/>
                </a:solidFill>
                <a:latin typeface="Garamond"/>
              </a:rPr>
              <a:t>Girl Before a Mirror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, 1932, Cubist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33926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Sotatsu, </a:t>
            </a:r>
            <a:r>
              <a:rPr b="0" i="1" lang="en-US" sz="3600" spc="-1" strike="noStrike">
                <a:solidFill>
                  <a:srgbClr val="000000"/>
                </a:solidFill>
                <a:latin typeface="Garamond"/>
              </a:rPr>
              <a:t>The Zen Priest Choka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, late 16th – early 17th centu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581280" y="1752480"/>
            <a:ext cx="18259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1981080"/>
            <a:ext cx="80773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Garamond"/>
              </a:rPr>
              <a:t>Critical Thinking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Garamond"/>
              </a:rPr>
              <a:t>Ques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Proportion vs. Sc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3524400" cy="27212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486400" y="1828800"/>
            <a:ext cx="224316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246400"/>
            <a:ext cx="3809880" cy="2636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80988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Unity &amp; Var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586116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Emphasis &amp; Subord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1752480"/>
            <a:ext cx="282564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phasis &amp; Subord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017800" y="1981080"/>
            <a:ext cx="510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Emphasis &amp; Subord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700360" y="2133720"/>
            <a:ext cx="3743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Bal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58840" y="2506680"/>
            <a:ext cx="68245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Asymmetrical Bal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124080" y="1981080"/>
            <a:ext cx="275904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Rhy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971800" y="1752480"/>
            <a:ext cx="3071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Rhy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581280" y="1752480"/>
            <a:ext cx="2028960" cy="41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Rhy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429000" y="1828800"/>
            <a:ext cx="26812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348624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Visual We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58928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Sc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5105160" cy="35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Sc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457200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Sc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61348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Propor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90920" y="1828800"/>
            <a:ext cx="4190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Propor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3933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15:40:42Z</dcterms:created>
  <dc:creator>Sheila Levi</dc:creator>
  <dc:description/>
  <dc:language>en-US</dc:language>
  <cp:lastModifiedBy>Sheila</cp:lastModifiedBy>
  <dcterms:modified xsi:type="dcterms:W3CDTF">2005-05-16T20:36:18Z</dcterms:modified>
  <cp:revision>20</cp:revision>
  <dc:subject/>
  <dc:title>Principles of Design</dc:title>
</cp:coreProperties>
</file>